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gif" ContentType="image/gif"/>
  <Override PartName="/ppt/media/cashreg.wav" ContentType="audio/x-wav"/>
  <Override PartName="/ppt/media/image10.png" ContentType="image/png"/>
  <Override PartName="/ppt/media/image1.gif" ContentType="image/gif"/>
  <Override PartName="/ppt/media/09.%20Who%20Correct.wav" ContentType="audio/x-wav"/>
  <Override PartName="/ppt/media/image2.gif" ContentType="image/gif"/>
  <Override PartName="/ppt/media/sting.wav" ContentType="audio/x-wav"/>
  <Override PartName="/ppt/media/drumroll.wav" ContentType="audio/x-wav"/>
  <Override PartName="/ppt/media/image3.png" ContentType="image/png"/>
  <Override PartName="/ppt/media/image5.gif" ContentType="image/gif"/>
  <Override PartName="/ppt/media/Tarda.wav" ContentType="audio/x-wav"/>
  <Override PartName="/ppt/media/image9.png" ContentType="image/png"/>
  <Override PartName="/ppt/media/image6.gif" ContentType="image/gif"/>
  <Override PartName="/ppt/media/image4.gif" ContentType="image/gif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F77E-4406-4C18-952C-4C0A791D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8ED5-7AA6-430D-9C89-91101098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CDD6-E9BB-4026-BA4F-82CAEFE0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A61-1DD3-48F5-AC76-F220BEA5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2372-67B3-46DE-9DA9-1FE84B02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3B7-4445-440D-A7EC-0084A83F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754F-1E10-4E0C-9498-E88E86C8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774-85A7-4F54-B1F0-B051CD35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07F-6452-44A0-8F18-B0176E67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A3D5-B21A-43AB-8C21-4B4DD33A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E2D-D66C-4F07-9B59-41A6B6D1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3D43-5A99-4769-9BAD-2F9E786A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5E2D-22E4-491A-ACE6-A77567CD0F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sting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" Target=""/><Relationship Id="rId4" Type="http://schemas.openxmlformats.org/officeDocument/2006/relationships/audio" Target="../media/09.%20Who%20Correct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Tarda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3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8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09.%20Who%20Correct.wav"/><Relationship Id="rId6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Ravie"/>
              </a:rPr>
              <a:t>Who Wants To Be A Millionaire?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304812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Ravie"/>
              </a:rPr>
              <a:t>Mrs Mance’s Ed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1720800" cy="2210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1754280" cy="198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  <p:sndAc>
      <p:stSnd>
        <p:snd r:embed="rId3" name="stin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ow many metres in 4k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4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4" name="09.%20Who%20Correct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ow many metres in 4k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4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4716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2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3" action="ppaction://hlinksldjump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How many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Arial"/>
              </a:rPr>
              <a:t>centimetr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in 1 met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4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09.%20Who%20Correct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1720" y="4724280"/>
            <a:ext cx="8155080" cy="838440"/>
          </a:xfrm>
          <a:prstGeom prst="hexagon">
            <a:avLst>
              <a:gd name="adj" fmla="val 30891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How many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Arial"/>
              </a:rPr>
              <a:t>centimetr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 in 1 met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4716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3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ow many cm in 3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3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4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09.%20Who%20Correct.wav"/>
      </p:stSnd>
    </p:sndAc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ow many cm in 3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3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4140360" y="3213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4716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5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2" action="ppaction://hlinksldjump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3" action="ppaction://hlinksldjump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ow many cm in 3.75 metr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7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7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37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4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09.%20Who%20Correct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ow many cm in 3.75 metre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7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7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37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4716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539640" y="3716280"/>
            <a:ext cx="8153640" cy="838080"/>
          </a:xfrm>
          <a:prstGeom prst="hexagon">
            <a:avLst>
              <a:gd name="adj" fmla="val 30898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ow many metres are there in a kilometre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4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09.%20Who%20Correct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>
            <a:hlinkClick r:id="rId1" action="ppaction://hlinksldjump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2" action="ppaction://hlinksldjump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rId3" action="ppaction://hlinksldjump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m in 6c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4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09.%20Who%20Correct.wav"/>
      </p:stSnd>
    </p:sndAc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nextslide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m in 6c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4716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2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2" action="ppaction://hlinksldjump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3" action="ppaction://hlinksldjump"/>
          </p:cNvPr>
          <p:cNvSpPr/>
          <p:nvPr/>
        </p:nvSpPr>
        <p:spPr>
          <a:xfrm>
            <a:off x="539640" y="4724280"/>
            <a:ext cx="8153640" cy="838440"/>
          </a:xfrm>
          <a:prstGeom prst="hexagon">
            <a:avLst>
              <a:gd name="adj" fmla="val 30885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cm=?m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rId4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09.%20Who%20Correct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cm=?m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4716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4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539640" y="2781360"/>
            <a:ext cx="8153640" cy="838080"/>
          </a:xfrm>
          <a:prstGeom prst="hexagon">
            <a:avLst>
              <a:gd name="adj" fmla="val 30898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4724280"/>
            <a:ext cx="8153640" cy="838440"/>
          </a:xfrm>
          <a:prstGeom prst="hexagon">
            <a:avLst>
              <a:gd name="adj" fmla="val 30885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How many metres are there in a kilometre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rId2" action="ppaction://hlinksldjump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rId3" action="ppaction://hlinksldjump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mm=?c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rId4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09.%20Who%20Correct.wav"/>
      </p:stSnd>
    </p:sndAc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>
            <a:hlinkClick r:id="" action="ppaction://hlinkshowjump?jump=nextslide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mm=?c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4716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8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rId1" action="ppaction://hlinksldjump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>
            <a:hlinkClick r:id="rId2" action="ppaction://hlinksldjump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>
            <a:hlinkClick r:id="rId3" action="ppaction://hlinksldjump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2000m = ?km</a:t>
            </a:r>
            <a:r>
              <a:rPr b="0" lang="en-GB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4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09.%20Who%20Correct.wav"/>
      </p:stSnd>
    </p:sndAc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1720" y="4724280"/>
            <a:ext cx="8155080" cy="838440"/>
          </a:xfrm>
          <a:prstGeom prst="hexagon">
            <a:avLst>
              <a:gd name="adj" fmla="val 30891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2000m = ?k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4716" fill="hold"/>
                                        <p:tgtEl>
                                          <p:spTgt spid="4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6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4716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000mm = ?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539640" y="2781360"/>
            <a:ext cx="8153640" cy="838080"/>
          </a:xfrm>
          <a:prstGeom prst="hexagon">
            <a:avLst>
              <a:gd name="adj" fmla="val 30898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>
            <a:hlinkClick r:id="" action="ppaction://hlinkshowjump?jump=nextslide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000mm = ?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4716" fill="hold"/>
                                        <p:tgtEl>
                                          <p:spTgt spid="5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m = ?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.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5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>
            <a:hlinkClick r:id="" action="ppaction://hlinkshowjump?jump=nextslide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m = ?c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.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5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4716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64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132000" y="1700280"/>
            <a:ext cx="2409840" cy="2409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1385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rId1" action="ppaction://hlinksldjump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>
            <a:hlinkClick r:id="rId2" action="ppaction://hlinksldjump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>
            <a:hlinkClick r:id="rId3" action="ppaction://hlinksldjump"/>
          </p:cNvPr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I walked for 100m. How many cm is thi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>
            <a:hlinkClick r:id="rId4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09.%20Who%20Correct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>
            <a:hlinkClick r:id="" action="ppaction://hlinkshowjump?jump=nextslide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I walked for 100m. How many cm is thi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0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4716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25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How many km in 3650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5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.6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3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65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" action="ppaction://hlinkshowjump?jump=nextslide"/>
          </p:cNvPr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How many km in 3650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50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3.6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3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653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4716" fill="hold"/>
                                        <p:tgtEl>
                                          <p:spTgt spid="6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25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47840" y="1433520"/>
            <a:ext cx="513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1840" y="1360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78160" y="1844640"/>
            <a:ext cx="658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Better luck next tim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3132000" y="3141720"/>
            <a:ext cx="2556000" cy="2368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213854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chool gate is .75km from the front door. How many metres is t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7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7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70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6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>
            <a:hlinkClick r:id="" action="ppaction://hlinkshowjump?jump=nextslide"/>
          </p:cNvPr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school gate is .75km from the front door. How many metres is t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7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7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70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4716" fill="hold"/>
                                        <p:tgtEl>
                                          <p:spTgt spid="6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50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1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I had a ruler with 500 mm marked on it. How many cm long would it b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" action="ppaction://hlinkshowjump?jump=nextslide"/>
          </p:cNvPr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cc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I had a ruler with 500 mm marked on it. How many cm long would it b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276720" y="2133720"/>
            <a:ext cx="2444760" cy="23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4716" fill="hold"/>
                                        <p:tgtEl>
                                          <p:spTgt spid="7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,000,0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2843280" y="549360"/>
            <a:ext cx="3551040" cy="399096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 txBox="1"/>
          <p:nvPr/>
        </p:nvSpPr>
        <p:spPr>
          <a:xfrm>
            <a:off x="1547640" y="5013360"/>
            <a:ext cx="65246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GRATULATIONS!!!!</a:t>
            </a:r>
            <a:endParaRPr b="0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7" dur="75742" fill="hold"/>
                                        <p:tgtEl>
                                          <p:spTgt spid="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2514600"/>
            <a:ext cx="8001000" cy="1905120"/>
          </a:xfrm>
          <a:prstGeom prst="hexagon">
            <a:avLst>
              <a:gd name="adj" fmla="val 10266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Arial"/>
              </a:rPr>
              <a:t>£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2057400"/>
            <a:ext cx="8001000" cy="2743200"/>
          </a:xfrm>
          <a:prstGeom prst="hexagon">
            <a:avLst>
              <a:gd name="adj" fmla="val 7130"/>
              <a:gd name="vf" fmla="val 115470"/>
            </a:avLst>
          </a:prstGeom>
          <a:solidFill>
            <a:srgbClr val="000000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Question 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-360" y="35053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8610480" y="35053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3:35:24Z</dcterms:created>
  <dc:creator>STNG11</dc:creator>
  <dc:description/>
  <dc:language>en-US</dc:language>
  <cp:lastModifiedBy>Pitchford</cp:lastModifiedBy>
  <dcterms:modified xsi:type="dcterms:W3CDTF">2006-10-30T11:55:57Z</dcterms:modified>
  <cp:revision>11</cp:revision>
  <dc:subject/>
  <dc:title>Who Wants To Be A Millionaire?  </dc:title>
</cp:coreProperties>
</file>